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41A8-1F46-4280-8CF9-5473E7DD6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5589-852C-4D8D-BE12-7020DCD6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1C7C-6E13-4ECD-9A24-D5616D916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BEC8-F010-4E7F-876A-B71727608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95B0-5979-4682-829E-023C470B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0F12-167B-4FF3-BAFF-B9319621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E4D2-1EB4-4901-83A3-F14CD756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0351-244F-4E23-8E18-2353C5CE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50FD-B48A-4326-BBC3-265AD092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3D80-7065-4941-894B-79D275E6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6B83-06ED-4855-9E51-D05D0BEB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59AF-0BAD-4A2B-AB6C-0ACA3818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BBDEF-903E-4E81-93F3-0420AED7077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ussian History 1918-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Rise and Fall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viet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y Jake Latini, Luke Marcheski and Isabelle Pillone </a:t>
            </a: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1918-19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918: Czar Nicholas II and his family where mur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ussia soon became the Union of Soviet Scolastic Republic (USSR or the Soviet Un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918-1922: Civil War between the Red Army and the White Russ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24-19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924: Lenin di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929: Stalin became the dictator of the US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939: September: WW II be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vember-USSR and Finland battle for land in the Winter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940: February: The Winter War 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96840" y="-49320"/>
            <a:ext cx="9469440" cy="7304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945-196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45-May: Berlin surrenders to the US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gust: The USA bombed Hiroshima and Nagaski which ended WW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d War 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53-Stalin dies and is taken over by Nikita Khrushch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57-The Soviet Union launches “Sputni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ace Race” beg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61-Yuri Gagarin becomes the first astronaut. The Soviet Union builds a wall between East and West Berli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531720" y="0"/>
            <a:ext cx="12647520" cy="7086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1962-1980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962-The Cuban Missile Cri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964-Khrushchev was replaced by Leonid Brezhnev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965-The Soviet Union backs North Vietnam against the U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975- “The Space Race” is won by the USA by being the only nation to put a man on the M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980-The USSR loses to the US in the hockey Olympics 4 to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54000" y="-7920"/>
            <a:ext cx="9198000" cy="7323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85-198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5-Mikhail Gorbachev becomes a leader of the Soviet U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6-The nuclear accident in Chernoby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6-USSR launches the MIR space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9-USSR withdraws from Afghanistan     the Berlin wall 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 War 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90-199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0-Boris Yelstin is pres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1-Russia becomes an independent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9-Yelstin r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With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has gone trough a lot of w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nt millions of dollars on “The Space Race” and Sputn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had a lot of competition and ch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44:31Z</dcterms:created>
  <dc:creator> </dc:creator>
  <dc:description/>
  <dc:language>en-US</dc:language>
  <cp:lastModifiedBy> </cp:lastModifiedBy>
  <dcterms:modified xsi:type="dcterms:W3CDTF">2010-12-20T15:55:03Z</dcterms:modified>
  <cp:revision>4</cp:revision>
  <dc:subject/>
  <dc:title>Russian History 1918-2000</dc:title>
</cp:coreProperties>
</file>